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5A5E-8A39-4607-8B33-D243A7D12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BB10-AB63-4EB4-A1BD-CDEA4EC74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5BBF-DE01-4162-B9A7-E0A3D2B0D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0E6B-B735-4445-B77F-D2183213A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7DC51-BD1B-4AB4-AD96-58F466F4B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28135-5427-463F-AE38-A7BC266C1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6A5BF-FDCB-428C-9ED5-14133DF5E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9FD62-CFDF-4385-8B25-A62D81933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BC249-392E-470D-B337-E239AC0E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8696B-C435-41ED-9895-717F140CF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8C836-58D8-41DD-9D89-93E285E2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C700-E48C-4344-9285-342530E84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32790-D5AB-4A2C-B24E-A8F9D9C4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DF8F8-18D2-4EB7-BF21-74043F33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75A8B-D615-46F6-9217-A0C5F563C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0ED76-5ED8-4DE1-9B05-235561332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01E15-F6AE-4915-8FD2-8A86715E0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EB82-4E7B-475C-9D19-B661D93A0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457E-143D-45CD-9028-897751563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8F87-5E44-47C4-B0FA-03510F222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B9A4-19B4-4891-B203-56B8A1B93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201B-98B3-475E-ADAC-1C9D3113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8BFA-569C-4625-A4C9-D931D53F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5F4E-157C-4B91-AC94-42EF392F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2b5481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d5781"/>
                </a:gs>
                <a:gs pos="100000">
                  <a:srgbClr val="0033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2d5781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b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b5fff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E8A27-F369-4D2C-9363-527B1C20DAC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2b5481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d5781"/>
                </a:gs>
                <a:gs pos="100000">
                  <a:srgbClr val="0033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2d5781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ff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19702-1037-4BA4-B53A-79DD0E535E6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b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b5fffb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2b5481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Project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2b5481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4128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re is the approximate correct location of the center of mass of a car?</a:t>
            </a:r>
            <a:br>
              <a:rPr sz="4000"/>
            </a:br>
            <a:endParaRPr b="0" lang="en-US" sz="36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362320" y="3429000"/>
            <a:ext cx="1923840" cy="800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0" name="TPChart"/>
          <p:cNvGraphicFramePr/>
          <p:nvPr/>
        </p:nvGraphicFramePr>
        <p:xfrm>
          <a:off x="4191120" y="914400"/>
          <a:ext cx="4570200" cy="5141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1" name="TPChart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91120" y="91440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2362320" y="4497480"/>
            <a:ext cx="1923840" cy="7966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2362320" y="1295280"/>
            <a:ext cx="1923840" cy="8002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6"/>
          <a:stretch/>
        </p:blipFill>
        <p:spPr>
          <a:xfrm>
            <a:off x="2362320" y="2400480"/>
            <a:ext cx="1923840" cy="7999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2971800" y="2819520"/>
            <a:ext cx="76320" cy="75960"/>
          </a:xfrm>
          <a:prstGeom prst="ellipse">
            <a:avLst/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4952880"/>
            <a:ext cx="76320" cy="76320"/>
          </a:xfrm>
          <a:prstGeom prst="ellipse">
            <a:avLst/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666880" y="1676520"/>
            <a:ext cx="76320" cy="75960"/>
          </a:xfrm>
          <a:prstGeom prst="ellipse">
            <a:avLst/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00400" y="3809880"/>
            <a:ext cx="76320" cy="76320"/>
          </a:xfrm>
          <a:prstGeom prst="ellipse">
            <a:avLst/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200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2b5481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Arial"/>
              </a:rPr>
              <a:t>Solving for CM / CG</a:t>
            </a:r>
            <a:endParaRPr b="0" lang="en-US" sz="40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location of the center of mass of a system can be found using the conservation of momentu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ider a block that explodes into a bunch of piec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 = 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1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3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3429000" y="4267080"/>
            <a:ext cx="1600200" cy="60984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5334120"/>
            <a:ext cx="380880" cy="60948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791320" y="5334120"/>
            <a:ext cx="380880" cy="60948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76720" y="5334120"/>
            <a:ext cx="380880" cy="60948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209680" y="5334120"/>
            <a:ext cx="381240" cy="60948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81240" y="543888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76720" y="542448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48320" y="541008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791320" y="541008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038480" y="4419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2b5481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Solving for CM / CG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38188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momentum of the system before exploding is the same after explod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befor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af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c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m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+ m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+ m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+ m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member v=d/t or x/t where x=dist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(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c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/t) = m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/t) + m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/t) + m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/t) + m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/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ime is the same for the whole syste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457200" y="5486400"/>
                <a:ext cx="822960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2b5481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ree masses, 2kg, 3kg, and 6kg, are located at positions (3,0), (6,0), and (-4,0) respectively, in meters from the origin. Where is the center of mass of the system?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2b5481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Arial"/>
              </a:rPr>
              <a:t>Three people of roughly equivalent mass m on a lightweight banana boat sit along the x axis at positions x</a:t>
            </a:r>
            <a:r>
              <a:rPr b="0" lang="en-US" sz="2800" spc="-1" strike="noStrike" baseline="-25000">
                <a:solidFill>
                  <a:srgbClr val="e5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5ffff"/>
                </a:solidFill>
                <a:latin typeface="Arial"/>
              </a:rPr>
              <a:t>=1m, x</a:t>
            </a:r>
            <a:r>
              <a:rPr b="0" lang="en-US" sz="2800" spc="-1" strike="noStrike" baseline="-25000">
                <a:solidFill>
                  <a:srgbClr val="e5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5ffff"/>
                </a:solidFill>
                <a:latin typeface="Arial"/>
              </a:rPr>
              <a:t>=5m, and x</a:t>
            </a:r>
            <a:r>
              <a:rPr b="0" lang="en-US" sz="2800" spc="-1" strike="noStrike" baseline="-25000">
                <a:solidFill>
                  <a:srgbClr val="e5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e5ffff"/>
                </a:solidFill>
                <a:latin typeface="Arial"/>
              </a:rPr>
              <a:t>=6m. Find the position of the CM.</a:t>
            </a:r>
            <a:r>
              <a:rPr b="0" lang="en-US" sz="4000" spc="-1" strike="noStrike">
                <a:solidFill>
                  <a:srgbClr val="e5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Arial"/>
            </a:endParaRPr>
          </a:p>
        </p:txBody>
      </p:sp>
      <p:graphicFrame>
        <p:nvGraphicFramePr>
          <p:cNvPr id="220" name="TPChart"/>
          <p:cNvGraphicFramePr/>
          <p:nvPr/>
        </p:nvGraphicFramePr>
        <p:xfrm>
          <a:off x="4572000" y="2173320"/>
          <a:ext cx="3960720" cy="468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173320"/>
                    <a:ext cx="3960720" cy="46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2174760"/>
            <a:ext cx="4114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23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224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2b5481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Arial"/>
              </a:rPr>
              <a:t>The centers of a 4kg sphere and a 7.5kg sphere are separated by a distance of 1.5m. Where is the center of mass of the system?</a:t>
            </a:r>
            <a:endParaRPr b="0" lang="en-US" sz="3200" spc="-1" strike="noStrike">
              <a:solidFill>
                <a:srgbClr val="e5ffff"/>
              </a:solidFill>
              <a:latin typeface="Arial"/>
            </a:endParaRPr>
          </a:p>
        </p:txBody>
      </p:sp>
      <p:graphicFrame>
        <p:nvGraphicFramePr>
          <p:cNvPr id="227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52280" y="1946160"/>
            <a:ext cx="41911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75m from the 4kg sphe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86m from the 4kg sphe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98m from the 4kg sphe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02m from the 4kg sphe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30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231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2b5481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6836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Arial"/>
              </a:rPr>
              <a:t>Two skaters with masses of 65kg and 45kg, respectively, stand 8m apart, each holding an end of a rope. The light skater pulls on the rope until the two skaters meet. How far does the light skater travel?</a:t>
            </a:r>
            <a:endParaRPr b="0" lang="en-US" sz="2400" spc="-1" strike="noStrike">
              <a:solidFill>
                <a:srgbClr val="e5ffff"/>
              </a:solidFill>
              <a:latin typeface="Arial"/>
            </a:endParaRPr>
          </a:p>
        </p:txBody>
      </p:sp>
      <p:graphicFrame>
        <p:nvGraphicFramePr>
          <p:cNvPr id="234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114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8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.5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73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27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37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238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2b5481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Arial"/>
              </a:rPr>
              <a:t>2D Example</a:t>
            </a:r>
            <a:endParaRPr b="0" lang="en-US" sz="40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d the location of the C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1kg, 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2kg, 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3kg, 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4k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"/>
          <p:cNvSpPr/>
          <p:nvPr/>
        </p:nvSpPr>
        <p:spPr>
          <a:xfrm>
            <a:off x="1905120" y="60958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4,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295280" y="2133720"/>
            <a:ext cx="5486400" cy="4101840"/>
            <a:chOff x="1295280" y="2133720"/>
            <a:chExt cx="5486400" cy="4101840"/>
          </a:xfrm>
        </p:grpSpPr>
        <p:sp>
          <p:nvSpPr>
            <p:cNvPr id="245" name=""/>
            <p:cNvSpPr/>
            <p:nvPr/>
          </p:nvSpPr>
          <p:spPr>
            <a:xfrm>
              <a:off x="2209680" y="2590920"/>
              <a:ext cx="0" cy="33526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209680" y="5943600"/>
              <a:ext cx="4038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028960" y="3244680"/>
              <a:ext cx="380880" cy="38124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013120" y="5759280"/>
              <a:ext cx="380880" cy="38124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708440" y="3260880"/>
              <a:ext cx="381240" cy="38088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737240" y="5746680"/>
              <a:ext cx="380880" cy="38124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209680" y="3429000"/>
              <a:ext cx="2667240" cy="2514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447920" y="283356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(0,4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029200" y="297180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(4,4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48520" y="586728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81080" y="213372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295280" y="579132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m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47920" y="3200400"/>
              <a:ext cx="533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m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181480" y="335268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m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181480" y="548640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m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2b5481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Project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y to put your head against the wall and stand up with the chair in the front of the room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n try to stand with your heels against the wall and lean over and touch your to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y can’t you do either of these thing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2b5481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ffff"/>
                </a:solidFill>
                <a:latin typeface="Arial"/>
              </a:rPr>
              <a:t>Lesson #68</a:t>
            </a:r>
            <a:br>
              <a:rPr sz="2400"/>
            </a:br>
            <a:r>
              <a:rPr b="1" lang="en-US" sz="2400" spc="-1" strike="noStrike">
                <a:solidFill>
                  <a:srgbClr val="e5ffff"/>
                </a:solidFill>
                <a:latin typeface="Arial"/>
              </a:rPr>
              <a:t>Topic: Stability</a:t>
            </a:r>
            <a:endParaRPr b="0" lang="en-US" sz="2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380880" y="137160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Objectives: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After this class I will be able to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85800" indent="-68580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fine stabil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85800" indent="-68580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cribe an example of an object that is stable, unstable, and neutr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858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7467480" y="304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/20/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80880" y="441972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Warm Up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 What is an example of an object that is stable, unstable, and neutra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0880" y="5715000"/>
            <a:ext cx="8229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Assignmen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Concept Development 10 -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ok Problems p147 RQ #16, 17, 20, TE 3,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2b5481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ffff"/>
                </a:solidFill>
                <a:latin typeface="Arial"/>
              </a:rPr>
              <a:t>Lesson #65</a:t>
            </a:r>
            <a:br>
              <a:rPr sz="2400"/>
            </a:br>
            <a:r>
              <a:rPr b="1" lang="en-US" sz="2400" spc="-1" strike="noStrike">
                <a:solidFill>
                  <a:srgbClr val="e5ffff"/>
                </a:solidFill>
                <a:latin typeface="Arial"/>
              </a:rPr>
              <a:t>Topic: Center of Mass / Gravity</a:t>
            </a:r>
            <a:endParaRPr b="0" lang="en-US" sz="2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380880" y="1904760"/>
            <a:ext cx="87631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Objectives: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After this class I will be able to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8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Define center of gravity / ma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8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Locate an object’s center of mas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8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7467480" y="304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/18/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4920" y="4343400"/>
            <a:ext cx="8305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rm Up: Toss different objects through the air and observe differences and similarities of their mo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4920" y="61722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signment: Book Problems p147 RQ #5, 7, 8, 11,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2b5481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Arial"/>
              </a:rPr>
              <a:t>Stability</a:t>
            </a:r>
            <a:endParaRPr b="0" lang="en-US" sz="40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ble: An object that is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abl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one where any rotation in any direction will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rais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object’s center of grav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3581280" y="3809880"/>
            <a:ext cx="1828800" cy="198144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066680" y="5791320"/>
            <a:ext cx="6934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rot="1531800">
            <a:off x="6019920" y="3505320"/>
            <a:ext cx="1828800" cy="19810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419720" y="5029200"/>
            <a:ext cx="152280" cy="152280"/>
          </a:xfrm>
          <a:prstGeom prst="ellipse">
            <a:avLst/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753240" y="4633920"/>
            <a:ext cx="152280" cy="152280"/>
          </a:xfrm>
          <a:prstGeom prst="ellipse">
            <a:avLst/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581280" y="5105520"/>
            <a:ext cx="41911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581280" y="4724280"/>
            <a:ext cx="41911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7696080" y="472392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2b5481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Arial"/>
              </a:rPr>
              <a:t>Stability</a:t>
            </a:r>
            <a:endParaRPr b="0" lang="en-US" sz="40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stable: An object that is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unstabl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one where any rotation in any direction will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lowe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object’s center of grav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 rot="10800000">
            <a:off x="3505320" y="3809880"/>
            <a:ext cx="1828800" cy="198144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066680" y="5791320"/>
            <a:ext cx="6934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14725200">
            <a:off x="5486400" y="4376520"/>
            <a:ext cx="1828800" cy="198144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343400" y="4572000"/>
            <a:ext cx="152280" cy="152280"/>
          </a:xfrm>
          <a:prstGeom prst="ellipse">
            <a:avLst/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553080" y="5243400"/>
            <a:ext cx="152640" cy="152640"/>
          </a:xfrm>
          <a:prstGeom prst="ellipse">
            <a:avLst/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581280" y="5334120"/>
            <a:ext cx="41911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581280" y="4648320"/>
            <a:ext cx="41911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696080" y="46483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2b5481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2590920" y="4495680"/>
            <a:ext cx="1371600" cy="1295640"/>
          </a:xfrm>
          <a:prstGeom prst="ellipse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105520" y="4495680"/>
            <a:ext cx="1371600" cy="1295640"/>
          </a:xfrm>
          <a:prstGeom prst="ellipse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Arial"/>
              </a:rPr>
              <a:t>Stability</a:t>
            </a:r>
            <a:endParaRPr b="0" lang="en-US" sz="40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utral: An object that is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eutra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one where any rotation in any direction will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not chang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object’s center of grav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"/>
          <p:cNvSpPr/>
          <p:nvPr/>
        </p:nvSpPr>
        <p:spPr>
          <a:xfrm>
            <a:off x="1066680" y="5791320"/>
            <a:ext cx="6934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00400" y="5091120"/>
            <a:ext cx="152280" cy="152280"/>
          </a:xfrm>
          <a:prstGeom prst="ellipse">
            <a:avLst/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729400" y="5091120"/>
            <a:ext cx="152280" cy="152280"/>
          </a:xfrm>
          <a:prstGeom prst="ellipse">
            <a:avLst/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438280" y="5153040"/>
            <a:ext cx="41911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114800" y="48769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2b5481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Arial"/>
              </a:rPr>
              <a:t>Which of the following objects is stable?</a:t>
            </a:r>
            <a:endParaRPr b="0" lang="en-US" sz="4000" spc="-1" strike="noStrike">
              <a:solidFill>
                <a:srgbClr val="e5ffff"/>
              </a:solidFill>
              <a:latin typeface="Arial"/>
            </a:endParaRPr>
          </a:p>
        </p:txBody>
      </p:sp>
      <p:graphicFrame>
        <p:nvGraphicFramePr>
          <p:cNvPr id="297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33520" y="23270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floorlamp"/>
          <p:cNvSpPr/>
          <p:nvPr/>
        </p:nvSpPr>
        <p:spPr>
          <a:xfrm>
            <a:off x="2286000" y="1752480"/>
            <a:ext cx="905040" cy="9050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9718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hoto"/>
          <p:cNvSpPr/>
          <p:nvPr/>
        </p:nvSpPr>
        <p:spPr>
          <a:xfrm>
            <a:off x="2209680" y="2895480"/>
            <a:ext cx="1209960" cy="90972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ubChord"/>
          <p:cNvSpPr/>
          <p:nvPr/>
        </p:nvSpPr>
        <p:spPr>
          <a:xfrm>
            <a:off x="2362320" y="3809880"/>
            <a:ext cx="1133280" cy="129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63" y="3163"/>
                </a:moveTo>
                <a:arcTo wR="10800" hR="10800" stAng="-8100000" swAng="-10800000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3" name="ResponseCounter"/>
          <p:cNvGrpSpPr/>
          <p:nvPr/>
        </p:nvGrpSpPr>
        <p:grpSpPr>
          <a:xfrm>
            <a:off x="127080" y="5778360"/>
            <a:ext cx="952200" cy="952560"/>
            <a:chOff x="127080" y="5778360"/>
            <a:chExt cx="952200" cy="952560"/>
          </a:xfrm>
        </p:grpSpPr>
        <p:sp>
          <p:nvSpPr>
            <p:cNvPr id="304" name="RCOut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gradFill rotWithShape="0">
              <a:gsLst>
                <a:gs pos="0">
                  <a:srgbClr val="336699"/>
                </a:gs>
                <a:gs pos="100000">
                  <a:srgbClr val="00b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RCInn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2b5481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Arial"/>
              </a:rPr>
              <a:t>Which of the following objects is unstable?</a:t>
            </a:r>
            <a:endParaRPr b="0" lang="en-US" sz="4000" spc="-1" strike="noStrike">
              <a:solidFill>
                <a:srgbClr val="e5ffff"/>
              </a:solidFill>
              <a:latin typeface="Arial"/>
            </a:endParaRPr>
          </a:p>
        </p:txBody>
      </p:sp>
      <p:graphicFrame>
        <p:nvGraphicFramePr>
          <p:cNvPr id="307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520" y="23270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floorlamp"/>
          <p:cNvSpPr/>
          <p:nvPr/>
        </p:nvSpPr>
        <p:spPr>
          <a:xfrm>
            <a:off x="2286000" y="1752480"/>
            <a:ext cx="905040" cy="9050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9718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hoto"/>
          <p:cNvSpPr/>
          <p:nvPr/>
        </p:nvSpPr>
        <p:spPr>
          <a:xfrm>
            <a:off x="2209680" y="2895480"/>
            <a:ext cx="1209960" cy="90972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ubChord"/>
          <p:cNvSpPr/>
          <p:nvPr/>
        </p:nvSpPr>
        <p:spPr>
          <a:xfrm>
            <a:off x="2362320" y="3809880"/>
            <a:ext cx="1133280" cy="129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63" y="3163"/>
                </a:moveTo>
                <a:arcTo wR="10800" hR="10800" stAng="-8100000" swAng="-10800000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3" name="ResponseCounter"/>
          <p:cNvGrpSpPr/>
          <p:nvPr/>
        </p:nvGrpSpPr>
        <p:grpSpPr>
          <a:xfrm>
            <a:off x="127080" y="5778360"/>
            <a:ext cx="952200" cy="952560"/>
            <a:chOff x="127080" y="5778360"/>
            <a:chExt cx="952200" cy="952560"/>
          </a:xfrm>
        </p:grpSpPr>
        <p:sp>
          <p:nvSpPr>
            <p:cNvPr id="314" name="RCOut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gradFill rotWithShape="0">
              <a:gsLst>
                <a:gs pos="0">
                  <a:srgbClr val="336699"/>
                </a:gs>
                <a:gs pos="100000">
                  <a:srgbClr val="00b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RCInn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2b5481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Arial"/>
              </a:rPr>
              <a:t>Which of the following objects is neutral?</a:t>
            </a:r>
            <a:endParaRPr b="0" lang="en-US" sz="4000" spc="-1" strike="noStrike">
              <a:solidFill>
                <a:srgbClr val="e5ffff"/>
              </a:solidFill>
              <a:latin typeface="Arial"/>
            </a:endParaRPr>
          </a:p>
        </p:txBody>
      </p:sp>
      <p:graphicFrame>
        <p:nvGraphicFramePr>
          <p:cNvPr id="317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33520" y="23270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floorlamp"/>
          <p:cNvSpPr/>
          <p:nvPr/>
        </p:nvSpPr>
        <p:spPr>
          <a:xfrm>
            <a:off x="2286000" y="1752480"/>
            <a:ext cx="905040" cy="9050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9718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hoto"/>
          <p:cNvSpPr/>
          <p:nvPr/>
        </p:nvSpPr>
        <p:spPr>
          <a:xfrm>
            <a:off x="2209680" y="2895480"/>
            <a:ext cx="1209960" cy="90972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ubChord"/>
          <p:cNvSpPr/>
          <p:nvPr/>
        </p:nvSpPr>
        <p:spPr>
          <a:xfrm>
            <a:off x="2362320" y="3809880"/>
            <a:ext cx="1133280" cy="129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63" y="3163"/>
                </a:moveTo>
                <a:arcTo wR="10800" hR="10800" stAng="-8100000" swAng="-10800000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3" name="ResponseCounter"/>
          <p:cNvGrpSpPr/>
          <p:nvPr/>
        </p:nvGrpSpPr>
        <p:grpSpPr>
          <a:xfrm>
            <a:off x="127080" y="5778360"/>
            <a:ext cx="952200" cy="952560"/>
            <a:chOff x="127080" y="5778360"/>
            <a:chExt cx="952200" cy="952560"/>
          </a:xfrm>
        </p:grpSpPr>
        <p:sp>
          <p:nvSpPr>
            <p:cNvPr id="324" name="RCOut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gradFill rotWithShape="0">
              <a:gsLst>
                <a:gs pos="0">
                  <a:srgbClr val="336699"/>
                </a:gs>
                <a:gs pos="100000">
                  <a:srgbClr val="00b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RCInn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2b5481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enter of gravity / mass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y object can be treated as a particle with all of its mass concentrated at a single poi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point is called the object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enter of Mas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point where the force of gravity (weight) acts on an object is called it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enter of Gravi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the purpose of this course, center of gravity and the center of mass will be the same thing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ever, for very large objects these points may be in slightly different plac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mple: the Empire State building has a center of mass that is 1mm higher than its center of gravi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2b5481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6600" y="277920"/>
            <a:ext cx="79308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Arial"/>
              </a:rPr>
              <a:t>Center of Mass</a:t>
            </a:r>
            <a:endParaRPr b="0" lang="en-US" sz="40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1981080"/>
            <a:ext cx="1447920" cy="914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419720" y="1905120"/>
            <a:ext cx="1371600" cy="1218960"/>
          </a:xfrm>
          <a:prstGeom prst="triangle">
            <a:avLst>
              <a:gd name="adj" fmla="val 50000"/>
            </a:avLst>
          </a:prstGeom>
          <a:solidFill>
            <a:srgbClr val="00b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3886200"/>
            <a:ext cx="1447920" cy="137160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191120" y="3962520"/>
            <a:ext cx="1447560" cy="1295280"/>
          </a:xfrm>
          <a:custGeom>
            <a:avLst/>
            <a:gdLst>
              <a:gd name="textAreaLeft" fmla="*/ 340200 w 1447560"/>
              <a:gd name="textAreaRight" fmla="*/ 1106280 w 1447560"/>
              <a:gd name="textAreaTop" fmla="*/ 152280 h 1295280"/>
              <a:gd name="textAreaBottom" fmla="*/ 812520 h 1295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315200" y="3886200"/>
            <a:ext cx="838080" cy="1295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781680" y="2362320"/>
            <a:ext cx="1981440" cy="380880"/>
          </a:xfrm>
          <a:prstGeom prst="ellipse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2b5481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Arial"/>
              </a:rPr>
              <a:t>Center of Mass</a:t>
            </a:r>
            <a:endParaRPr b="0" lang="en-US" sz="40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projectiles will follow a parabolic motion through the sky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ever, even if an object explodes in the air, its center of mass will continue to follow this mo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mple: A firework is launched into the air and explodes at its highest poi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 flipV="1" rot="13586400">
            <a:off x="928440" y="4562640"/>
            <a:ext cx="7010640" cy="7009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642" y="472"/>
                </a:moveTo>
                <a:arcTo wR="10800" hR="10800" stAng="-6419967" swAng="7636725"/>
                <a:lnTo>
                  <a:pt x="10800" y="10800"/>
                </a:lnTo>
                <a:close/>
              </a:path>
              <a:path fill="none" w="21600" h="21600">
                <a:moveTo>
                  <a:pt x="7642" y="472"/>
                </a:moveTo>
                <a:arcTo wR="10800" hR="10800" stAng="-6419967" swAng="7636725"/>
              </a:path>
            </a:pathLst>
          </a:cu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1390200">
            <a:off x="1219320" y="6172200"/>
            <a:ext cx="152280" cy="533520"/>
          </a:xfrm>
          <a:prstGeom prst="flowChartMagneticDisk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5400000">
            <a:off x="4380840" y="4305240"/>
            <a:ext cx="152640" cy="533160"/>
          </a:xfrm>
          <a:prstGeom prst="flowChartMagneticDisk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2b5481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enter of Mass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enter of mass of an object can be located many different way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y time you flip an object of any shape or size, it rotates around its center of mas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you balance an object on a point, this point must be below the object’s center of mas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2b5481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ffff"/>
                </a:solidFill>
                <a:latin typeface="Arial"/>
              </a:rPr>
              <a:t>Lesson #66</a:t>
            </a:r>
            <a:br>
              <a:rPr sz="2400"/>
            </a:br>
            <a:r>
              <a:rPr b="1" lang="en-US" sz="2400" spc="-1" strike="noStrike">
                <a:solidFill>
                  <a:srgbClr val="e5ffff"/>
                </a:solidFill>
                <a:latin typeface="Arial"/>
              </a:rPr>
              <a:t>Topic: Lab: Finding C of G</a:t>
            </a:r>
            <a:endParaRPr b="0" lang="en-US" sz="2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Objectives: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After this class I will be able to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85800" indent="-68580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ise a way to find the exact location of an object’s center of mas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858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7467480" y="304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/19/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342900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Warm Up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How would you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stimat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the location of the center of mass of an objec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4952880"/>
            <a:ext cx="7924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Lab task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ce 5 objects on separate sheets of paper and mark where the center of mass is for each objec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2b5481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Project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2b5481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ffff"/>
                </a:solidFill>
                <a:latin typeface="Arial"/>
              </a:rPr>
              <a:t>Lesson #67</a:t>
            </a:r>
            <a:br>
              <a:rPr sz="2400"/>
            </a:br>
            <a:r>
              <a:rPr b="1" lang="en-US" sz="2400" spc="-1" strike="noStrike">
                <a:solidFill>
                  <a:srgbClr val="e5ffff"/>
                </a:solidFill>
                <a:latin typeface="Arial"/>
              </a:rPr>
              <a:t>Topic: Solving for CM</a:t>
            </a:r>
            <a:endParaRPr b="0" lang="en-US" sz="2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228600" y="1828440"/>
            <a:ext cx="87631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Objectives: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After this class I will be able to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85800" indent="-68580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lculate and solve for the exact location of the center of mass of an objec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858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7467480" y="304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/20/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464832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Warm Up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 Where is the approximate correct location of the center of mass of a ca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57150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Assignmen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“Solving CG” due at the end of the period tomorrow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2T17:39:45Z</dcterms:created>
  <dc:creator>End User</dc:creator>
  <dc:description/>
  <dc:language>en-US</dc:language>
  <cp:lastModifiedBy>End User</cp:lastModifiedBy>
  <dcterms:modified xsi:type="dcterms:W3CDTF">2007-07-17T18:26:56Z</dcterms:modified>
  <cp:revision>222</cp:revision>
  <dc:subject/>
  <dc:title>Lesson #1 8/29/06 </dc:title>
</cp:coreProperties>
</file>